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9BF-5800-4CF4-86DF-1B334BFB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80D-EACE-4F4A-BD22-6F845E20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BF1-B433-4BEE-AC9C-FB916088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361-9812-46DB-A87B-B25EB4A7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67FD-BB03-447B-976E-A12C5AD6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E6EF-7D42-41D5-BC0F-760DD5C1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AAFD-5C3F-4A10-914B-7F07549F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7F34-C536-4F0B-AE0D-BA3F3899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2AD9-BEA1-49F8-A42E-EE6E0950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04A9-1F37-4281-9DDD-2718C9A3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8544-A3F5-4D5F-934D-F94C7797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F2F-EE7A-4D7D-9917-0D143B7F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A08A-BD32-4D4F-8379-DFFD54B1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9F8E-21E1-4974-9D77-4784F601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A25D-1874-4E55-9DC1-A332238E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4442-3ACF-418F-B02B-5BCE9870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939F-402F-4AF2-97C2-120107DE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0D0-3E62-4801-BCA0-E48434C1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34F-C4A4-416E-B74F-4942FB88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512-D81C-4F1A-AC6E-035D9DCB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DAE-C42E-4AA9-B4B1-820B6267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652-FDD9-4F18-B99C-57CAD2E6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A1C-6A86-4A98-8576-A5D5EF2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F25-18F2-48A5-8E61-3975DFF4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879-3B10-44D9-8090-5FDE0B649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80C7-1922-4E22-BC5B-505FE3557B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70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88cc"/>
                </a:solidFill>
                <a:latin typeface="Arial Black"/>
              </a:rPr>
              <a:t>Prefixes</a:t>
            </a:r>
            <a:r>
              <a:rPr b="0" lang="en-GB" sz="3200" spc="-1" strike="noStrike">
                <a:solidFill>
                  <a:srgbClr val="0088cc"/>
                </a:solidFill>
                <a:latin typeface="Arial Black"/>
              </a:rPr>
              <a:t> – ‘un’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Spelling Skill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132000" y="616572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primaryresources.co.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More words that begin with the prefix ‘u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405080" y="4149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p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7200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uc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572000" y="2637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572000" y="4797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572000" y="3716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sc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05080" y="2852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332000" y="1773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More words that begin with the prefix ‘u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851280" y="270828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fortu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258920" y="2924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v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492360" y="537372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identif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211640" y="4149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us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11600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h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76360" y="450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635280" y="1628640"/>
            <a:ext cx="34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healt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More words that begin with the prefix ‘u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258920" y="3860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w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0" y="1916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16000" y="4869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w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619280" y="1484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w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403280" y="270828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bro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427640" y="314172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780000" y="537372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om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492360" y="422100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believ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More words that begin with the prefix ‘u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932360" y="3645000"/>
            <a:ext cx="35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s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987640" y="5373720"/>
            <a:ext cx="56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e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116000" y="3141720"/>
            <a:ext cx="568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fe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403280" y="148428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omfor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276720" y="2349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4500720" y="1341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50920" y="3412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What do all these words have in comm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219640" y="5229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1160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716360" y="400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1187280" y="126828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1258920" y="5157720"/>
            <a:ext cx="43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971640" y="3716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k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414036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500720" y="1341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50920" y="3412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They all begin with the prefix ‘u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219640" y="5229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1160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716360" y="400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187280" y="126828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58920" y="5157720"/>
            <a:ext cx="43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71640" y="3716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14036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What does the prefix ‘un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187280" y="1285920"/>
            <a:ext cx="56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116000" y="242100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116000" y="3645000"/>
            <a:ext cx="706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116000" y="486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711240" y="1484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happy,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350880" y="2619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release the loc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501000" y="3843360"/>
            <a:ext cx="370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open and remove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3710520" y="51134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unfa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What does the prefix ‘un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0920" y="58053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It means ‘not’ / the opposit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116000" y="46450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116000" y="2565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co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116000" y="3573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116000" y="170028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k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56652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kind, har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422160" y="278136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o remove the covering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3205080" y="378936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ancel the effe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059280" y="48690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96720" y="18900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Add the prefix ‘un’ to these words to make new on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87280" y="501336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87280" y="281160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87280" y="162864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187280" y="393228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8"/>
          <p:cNvGrpSpPr/>
          <p:nvPr/>
        </p:nvGrpSpPr>
        <p:grpSpPr>
          <a:xfrm>
            <a:off x="2627280" y="1628640"/>
            <a:ext cx="4465800" cy="764280"/>
            <a:chOff x="2627280" y="1628640"/>
            <a:chExt cx="4465800" cy="764280"/>
          </a:xfrm>
        </p:grpSpPr>
        <p:sp>
          <p:nvSpPr>
            <p:cNvPr id="128" name="Text Box 12"/>
            <p:cNvSpPr/>
            <p:nvPr/>
          </p:nvSpPr>
          <p:spPr>
            <a:xfrm>
              <a:off x="4500720" y="1628640"/>
              <a:ext cx="25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8cc"/>
                  </a:solidFill>
                  <a:latin typeface="Comic Sans MS"/>
                </a:rPr>
                <a:t>un</a:t>
              </a: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dre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>
              <a:off x="2627280" y="206064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3132000" y="2811600"/>
            <a:ext cx="3961080" cy="764280"/>
            <a:chOff x="3132000" y="2811600"/>
            <a:chExt cx="3961080" cy="764280"/>
          </a:xfrm>
        </p:grpSpPr>
        <p:sp>
          <p:nvSpPr>
            <p:cNvPr id="131" name="Text Box 11"/>
            <p:cNvSpPr/>
            <p:nvPr/>
          </p:nvSpPr>
          <p:spPr>
            <a:xfrm>
              <a:off x="4500720" y="2811600"/>
              <a:ext cx="25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8cc"/>
                  </a:solidFill>
                  <a:latin typeface="Comic Sans MS"/>
                </a:rPr>
                <a:t>un</a:t>
              </a: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equ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3132000" y="3213000"/>
              <a:ext cx="1297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0"/>
          <p:cNvGrpSpPr/>
          <p:nvPr/>
        </p:nvGrpSpPr>
        <p:grpSpPr>
          <a:xfrm>
            <a:off x="2843280" y="3932280"/>
            <a:ext cx="4249800" cy="764280"/>
            <a:chOff x="2843280" y="3932280"/>
            <a:chExt cx="4249800" cy="764280"/>
          </a:xfrm>
        </p:grpSpPr>
        <p:sp>
          <p:nvSpPr>
            <p:cNvPr id="134" name="Text Box 13"/>
            <p:cNvSpPr/>
            <p:nvPr/>
          </p:nvSpPr>
          <p:spPr>
            <a:xfrm>
              <a:off x="4500720" y="3932280"/>
              <a:ext cx="25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8cc"/>
                  </a:solidFill>
                  <a:latin typeface="Comic Sans MS"/>
                </a:rPr>
                <a:t>un</a:t>
              </a: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fai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2843280" y="4365720"/>
              <a:ext cx="1657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916360" y="5013360"/>
            <a:ext cx="4176720" cy="764280"/>
            <a:chOff x="2916360" y="5013360"/>
            <a:chExt cx="4176720" cy="764280"/>
          </a:xfrm>
        </p:grpSpPr>
        <p:sp>
          <p:nvSpPr>
            <p:cNvPr id="137" name="Text Box 10"/>
            <p:cNvSpPr/>
            <p:nvPr/>
          </p:nvSpPr>
          <p:spPr>
            <a:xfrm>
              <a:off x="4500720" y="5013360"/>
              <a:ext cx="25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8cc"/>
                  </a:solidFill>
                  <a:latin typeface="Comic Sans MS"/>
                </a:rPr>
                <a:t>un</a:t>
              </a: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fi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2916360" y="5445000"/>
              <a:ext cx="1511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Can you identify the root w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7636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f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332000" y="2924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32000" y="400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bo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403280" y="515772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42764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b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500720" y="2852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635280" y="393372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572000" y="5157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fa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24000" y="333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8cc"/>
                </a:solidFill>
                <a:latin typeface="Arial Black"/>
              </a:rPr>
              <a:t>Can you identify the root w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47636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f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332000" y="2924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332000" y="400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bo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03280" y="515772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a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427640" y="162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500720" y="2852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635280" y="393372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572000" y="5157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88cc"/>
                </a:solidFill>
                <a:latin typeface="Comic Sans MS"/>
              </a:rPr>
              <a:t>fa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1042920" y="22766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8cc"/>
                </a:solidFill>
                <a:latin typeface="Arial Black"/>
              </a:rPr>
              <a:t>What other words can you think of that begin with the prefix ‘un’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4:39:06Z</dcterms:created>
  <dc:creator>Pitchford</dc:creator>
  <dc:description/>
  <cp:keywords/>
  <dc:language>en-US</dc:language>
  <cp:lastModifiedBy>teacher</cp:lastModifiedBy>
  <dcterms:modified xsi:type="dcterms:W3CDTF">2011-02-13T14:28:58Z</dcterms:modified>
  <cp:revision>23</cp:revision>
  <dc:subject/>
  <dc:title>Prefix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551033</vt:lpwstr>
  </property>
</Properties>
</file>